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39800"/>
            <a:ext cx="49258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3FD-0B17-4A55-B603-F36F422FF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979E-2745-4985-B641-4048DA3C6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C00E-363D-4598-AF70-CF640D09C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12DE-73CD-442D-B8C6-5AC9034D3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17B6-8B99-4EDF-B705-49291E5D6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6EA7-B0F7-4A7F-B6F1-AC7F328F7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39A-3B03-40D3-9CCC-3610083B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9B9E-E42B-48A4-B80D-ED7365F5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D78A-CBC8-4477-ADB2-2FC5BDD1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A65-A155-405F-B416-C1759CA9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44C-A12A-4F8D-AA92-B1234526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819-228C-429E-99F9-8E319C2B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EBB-2241-43F3-83F7-A430B4A8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961-EED3-4F91-A519-F4B14381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36B-C36E-421A-A7FF-2ACCD1C4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BCD-528D-456E-A841-B0069F17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C72-C9ED-4306-BA1C-3F0E0F96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3E6-D2FD-4208-9A7F-CEFFBD57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8E8-CF60-4AF1-8CE9-666FA435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1EC-AC2F-4903-AFFB-20C1960B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1B9-1790-4454-90C7-3CEFE530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F988-5599-494C-88DB-494981084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8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9" name="Picture 9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5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5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35"/>
          <p:cNvSpPr/>
          <p:nvPr/>
        </p:nvSpPr>
        <p:spPr>
          <a:xfrm>
            <a:off x="304920" y="3340080"/>
            <a:ext cx="84582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VPD un IeVP darbinieku apmācību vajadzī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ētījuma rezultātu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Gitāna Dāvid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dītāja, vadošā konsultante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7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647640" y="-111240"/>
            <a:ext cx="949176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amatinformācija par pētīju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802800"/>
            <a:ext cx="808848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tījuma mērķ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adīt analītisko bāzi un iegūt informāciju par esošā apmācību procesa un satura atbilstību IeVP un VPD funkciju izpildei un identificēt pilnveidojamās apmācību j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orises laik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2009. gada janvāris –m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tnieku kvalifikā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ģistra grāds psiholoģ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smaz 5 gadu pedagoģiskā darba piered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ieeja pētījuma veikšan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kcionālā perspektī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ādas zināšanas, prasmes un iemaņas ir nepieciešamas šobrī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ādas zināšanas, prasmes un iemaņas ir būs nepieciešamas nākotnē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ersonāla perspektīv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s ir pašreizējais zināšanu, prasmju un iemaņu līmenis VPD un IeVP speciālistiem un vadošajam personāl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i ir pieejamās apmācības kompetenču attīstīb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72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ētniecības me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1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Funkcionālā perspektīv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okumentu analī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tervijas ar iestāžu vadošajām amatpersonā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Fokusgrupu diskusijas (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ersonāla perspektīv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cību programmu analīze, dalībnieku atsauk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dziļinātas intervijas (16 VPD; 15 ar virsnieki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Grupu intervijas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rukturēta VPD darbinieku un klientu sarunu novērošana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rukturēta klientu lietu vadības analīze (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ozīmīgākie pētījuma rezultā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360" y="764640"/>
            <a:ext cx="817884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airāku mācību programmu izvērtēj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PD: Jauno darbinieku apmācību programma, Individuālais darbs ar klientu u.c.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IeVP: programma “Ieslodzījuma vietu apsardz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Metodiskā un klientu perspektī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98320" y="3886200"/>
            <a:ext cx="817884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tizēts apkopojums par VPD vecākā referenta amatā nepieciešamajām zināšanām un prasmē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ktuālo mācību vajadzību apzināšana VPD darbinieki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85720" y="2455920"/>
            <a:ext cx="81788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Priekšlikumi par mācību tēmām un mācību programmas saturu 2 jaunām mācību programmā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irsniekiem IeV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PD darbinieki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61960" y="5200560"/>
            <a:ext cx="817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Apmācību sistēmu izvērtējums VPD un IeVP, priekšlikumi to pilnveidošan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8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8" name="Picture 9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5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Rectangle 35"/>
          <p:cNvSpPr/>
          <p:nvPr/>
        </p:nvSpPr>
        <p:spPr>
          <a:xfrm>
            <a:off x="304920" y="1401840"/>
            <a:ext cx="84582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ūtiskākie secinājumi un priekšlik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ācību programmu analī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ērķi un saturs lielā mērā nodrošina darbam nepieciešamo zināšanu un prasmju attīstīb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teicams palielināt praktisko mācību metožu vietu un īpats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pmācību sistē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cību programmu atbilstība apmācību mērķ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Lielā mērā nodrošināta programmu savstarpējā saskaņotība un pēctecīb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teicams pilnveidot apmācību kvalitātes uzraudzības mehān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08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8400" y="-41904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ētījuma veiksmes fak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5120" y="3348000"/>
            <a:ext cx="81788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ša konsultantu sadarbība ar projekta darba gr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nošanās par pētījuma metodēm un sagaidāmajiem rezultāt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ionālo kompetenču siner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icama projekta vadī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9880" y="581040"/>
            <a:ext cx="8205840" cy="2617560"/>
            <a:chOff x="839880" y="581040"/>
            <a:chExt cx="8205840" cy="2617560"/>
          </a:xfrm>
        </p:grpSpPr>
        <p:sp>
          <p:nvSpPr>
            <p:cNvPr id="117" name="Rectangle 10"/>
            <p:cNvSpPr/>
            <p:nvPr/>
          </p:nvSpPr>
          <p:spPr>
            <a:xfrm>
              <a:off x="839880" y="581040"/>
              <a:ext cx="81788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adošā personāla ieinteresētība abās iestādē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66880" y="1687320"/>
              <a:ext cx="81788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15360" indent="-31536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mācības kā nozīmīga prioritāte iestāžu darb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stēmiska pieeja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ūsdienīgas mācību meto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20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-27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Paldies par sadarbīb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ĪPA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PD un IeVP vadošajām amatpersonā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leksandram Dementjev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eonīdam Jefremov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inai Pūrītei un Lienei Zeibo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ojekta komand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ihailam Papsujevič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inai Vanagai un Anvaram Zavack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8:10:00Z</dcterms:created>
  <dc:creator>Maris</dc:creator>
  <dc:description/>
  <dc:language>en-US</dc:language>
  <cp:lastModifiedBy>Gitana</cp:lastModifiedBy>
  <dcterms:modified xsi:type="dcterms:W3CDTF">2010-12-14T17:51:49Z</dcterms:modified>
  <cp:revision>465</cp:revision>
  <dc:subject/>
  <dc:title>Organization Development Academy</dc:title>
</cp:coreProperties>
</file>